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0E9E-EEF3-4F3F-B0F4-E8AE7288E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AEF3-8B22-4BED-9735-1B10C85D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246E-2457-4AE3-A236-41949D760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9094-560A-4241-A893-520631530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D890-3294-413B-9890-DBD21FBD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2BEC-B46E-4612-8E26-8EA7CBED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D14A-E8FA-465F-9C2E-F9F8BFBF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AD0A-D326-4F39-81B2-D336731C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FAB2-DE8F-4CF3-9D67-2220F458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1E51-E9E2-44E7-8AE8-3BB41D20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3219-0A86-4B92-903B-4A21E671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75C7-B1DC-4EB3-BE58-6DE0EA2F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78F8-0AAA-4D0B-9AB7-2F54FF13B8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bsolut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guel de Cerva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Spanish 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wrote Europe’s first modern novel Don Quixo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Sp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550-16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his novel mocked medieval tales of chivalry; it depicts both foolish &amp; heroic idea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ion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uguen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French Protest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560-159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a plot by the Catholic royals led to the massacre of 3000 Huguenots= symbolized the complete breakdown of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nry I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King of France, Huguen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French prince also a Huguenot , inherited the throne as Henry I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ran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58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he fought against Catholic opposition for control of France; to end the conflict he converted to Catholic &amp; then allowed religious tolerance with the Edict of Na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dict of Na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Louis XIV, Huguen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a document for  Huguenots that gave them religious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59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is granted religious toleration and freedom = numerous religions were allowed in France, brought peace to France &amp; ended religious figh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dinal Richilie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Louis XIV’s chief minister, Catholic Cardin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cunning capable leader that devoted 18 yrs to strengthening the French central gov’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62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he sought to destroy the Huguenots (Protestants) &amp; nobles- outlawed their armies &amp; smashed their cities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uis XI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: French King, “The Sun King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: governed France himself, believed in Divine Right to Ru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: 1643-171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y: expanded the bureaucracy &amp; appointed intendants = cemented ties to middle class, built an army; emphasized his own importance = levee; classical age= sponsored French academics; made France strongest state in Europ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nda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French offic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Royal officials that collected taxes for Louis XI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6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appointed by Louis XIV to cement ties with the wealthy middle class so he could focus on taking power away from the no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ean-Baptiste Colbe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: King Louis XIV’s finance minis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: imposed Mercantilist policies to bolster the econom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: 1600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y: helped Louis XIV secure his ties w. France’s middle class &amp; stabilize the economy; he put tariffs on imported goods, fostered overseas colonies, regulated trade w. colonies; helped make France wealthiest in Europ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ersail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: Louis XIV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: a hunting lodge that Louis XIV turned into the most magnificent palace in Europ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: 1600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y: served as a symbol of king Louis XIV’s wealth  &amp; power as the “Sun King”; ceremonies honoring the king were held here; made nobles live here in order to control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v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French &amp; King Louis XI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a ceremony honoring the king; means “the rising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6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Louis XIV made nobles at court serve the him &amp; swear fealty to him in these ceremonies= showed his absolute po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lance of po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Louis XIV (French), Dutch, Engl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keeping balance amongst European nations so no one nation became too powerfu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rival rulers joined forces to sotp Louis XIV from expanding France’s borders &amp; taking over Europe= balance kept any one power from controlling the whole contin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ion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ames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the first Stuart mon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agreed to rule according to the English la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Eng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6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he lectured Parliament about Divine Right; repeatedly clashed w. Parliament over money &amp; foreign policy ; clashed w. disse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se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Protestants vs. James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protestants that differed with the Church of Eng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Engl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6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Puritans called for simpler service w.o bishops; James I rejected their demands &amp; they fled England for religious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rit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James I, Church of Eng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one group of dissenters that sought to purify the church of Catholic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Eng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603-16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James rejected their demands for a simpler service &amp; more democratic services w.o bishops = they fled England for America &amp; religious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rles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King of Eng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behaved like an absolute monarch &amp; made England m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Eng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625-164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his behavior caused probs w. Parliament = English Civil War = he was beheaded = England had a dictator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ver Cromwe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Eng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lish Bill of  Righ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Engl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mited 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Eng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psburg Emp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Charles V, Philip II, Ferdin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empire that included the Holy Roman Empire &amp; the Netherla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Spain &amp; Netherla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519-17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ere was too much land to defend so Charles V broke up his lands &amp; divided the empire b.n his brother and 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titutional Govern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British, Germ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a gov’t whose power is defined &amp; limited by law, by a constit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Eng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600s-n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supported broad royal powers &amp;  a dominant Anglican church; reflected business interest, support religious toleration &amp; favor Parliament  over the crow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bi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: George I, George II, Englis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: handful of Parliament advisors who set polic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re: Engla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: 1600-1700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y: set policies in a small room= cabinet= gaoined official status; head= prime Minister, leader of majority party= countries later adopted &amp; adapted this cabinet system= we have one toda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ion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: German princ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: German princes who in theory the states were ruled by the Holy Roman Empire who was chosen by seven leading german prin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re: German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: 1618-164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y: the Emperor had little power over the electors= this power vacuum led to 30 years war; religion further divided the German states= north Protestant, south= Catholic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rdin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Catholic Hapsburg king of Bohem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sought to suppress Protestants and to assert royal power over no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Bohemia, present day  Czech  Republ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6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he declared royal power over nobles = started 30 years war; Defenestration of Prague= started the w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rcen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soldiers for h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burned villages, destroyed crops, &amp; killed w/o mer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German st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618-164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when a ruler or someone who could pay for it wanted an army = hire mercernaries = they destroyed Europe’s population by destroying villages &amp; their peop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pop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European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reduction in pop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Germa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550-18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as many as 1/3 of the population in the German states died as a result of Mercenary armies during the 30 years w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ace of Westphal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: Austria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: treaty that brought peace to Europe after the 30 years war &amp; settled international proble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re: Austr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: 164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y: Austria became a strong Catholic state w. new Protestant power; in this treaty German lands were divided which broke up German pow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ria Theres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Hapsburg Emp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intelligent &amp; capable female ru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Aust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17-17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she strengthened Hapsburg power; forced nobles &amp; clergy to pay taxes; was involved in the war of Austrian Succ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rles 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: ruler of the Hapsburg Empi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: ruled the Hapsburg Empire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re: Spa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:151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y: fought to suppress Protestantism in the German states; always involved in constant religious warfare; went into monastery b.c. he was disillusioned by the enormous empire he had to rule; broke up his lands &amp; divided the Hapsburg Empi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r of the Austrian Succ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Maria Theresa (Austrians &amp; Hungarians) vs. Prussi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a conflict over who should succeed to the Austrian throne b.c. a woman had never ruled bef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Prussia v. Aust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40-174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uss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: Hohenzollern family, Prussia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: a region called Prussia, emerged as a new Protestant power- family ruled scattered lands across N. German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re: Pruss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: 1600-1700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y: following the Peace of Westphalia after 30 years war= ambitious Hohenzollern rulers uniting their holdings= unified Prussia= became one of the most powerful countries in Europ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derick William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Prussian ru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he gained loyalty of Prussian nobles called Jun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Prus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he reduced the nob les’ independence &amp; increased his own control; placed great emphasis on military, trained one of the best military’s in Europ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derick William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Prussian ruler, son of Frederick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Prussian ruler who came to power after his father in 1713 &amp; well trained in w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Prus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13-17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boldly seized Silesia from Austrian Succession; forced all to recognize Prussia as a great power= called Frederick the Gre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ter the Gre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: Romanov Tsar of Russ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: transformed Russia into a leading power in the world; helped modernize Russ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re: Russ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: 1689-172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y: he began a new policy of Westernization of culture; was an autocratic monarch that enforced his policies; brought all Russian institutions under his control; built St. Petersburg; expanded Russian borders; left a mixed legacy w. no hei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ster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o: Peter the Gre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at: the adoption of western ideas, technology, &amp; culture in Russ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ere: Russ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en: 1697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y: Peter went to extreme measures to westernize Russia= mixed feelings about his rule; persuading Russians to change their ways= difficult but his absolute power made them; imported W. technology &amp; brought W.. Education; simplified the alphabet; brought European culture to Russia (clothes, etc), set up academies for study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tocrat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monarc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one who ruled with unlimited author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Russia &amp;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6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Peter became the most  Autocratic of Europe’s absolute monarchs = no one had rights or authority except the autocratic ru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y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: Russian nob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: landowning nobles that served the state  in civilian/military posi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re: Russ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: 1600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y: Peter wanted to strengthen the military = he forced the Boyars to serve civilian &amp; military positions; he made them shave their beards &amp; change their old fashioned robes w. Western clothes; Boyars still retained control over their lan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rm-water 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Peter the Great &amp; Catherine the Gre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a port free of ice 24/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Russia, Black S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622-16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Russian ports froze during winter = they couldn’t trade; to trade year round = needed warm water port; he wanted to gain control of it by defeating Ottoman Empire but failed to do so; later= Catherine the Great got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ip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Spanish ru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he expanded the Spanish influence &amp; strengthened the Catholic chu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Sp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550-16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he centralized power to make his power absolute; saw himself as guardian of the Catholic church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. Petersbu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: Peter the Grea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: a magnificent new capital city named after Peter; “Window to the West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re: Russ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: 170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y: this became a great symbol of Peter the Great’s effort to forge a modern Russia; this opened a new window to the West; he forced the Serfs to create this city; Italian architecture made the city Wester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therine the Gre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: German princ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: married heiress to the Russian throne; succeeded Peter the Gre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re: Russ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: 1762- 1790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y: possibly killed her husband to obtain rule in Russia; followed in Peter’s footsteps &amp; worked to Westernize Russia during her reign; absolute monarch- forced peasants into Serfdom; expanded russia’s borders &amp; gained warm-water port on Black Se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t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rulers of Russia, Prussia, &amp; Aust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an agreement that divided up Pol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Po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70-179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is kept the 3 larger empire from fighting over the territory; Catherine took part of Eastern Poland, Frederick &amp; Joseph took part in the West; not until 1919 would a free Polish state app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bsolute Mon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Philip II, Henry VIII, Louis XIV, Catherine the Gre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ruler with absolute authority over the gover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500s-17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ese rulers had complete control over their people &amp; countries; they ruled by Divine Right which justified their absolute power = ppl had no rig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vine Rig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Absolute monarchs (Philip II, Louis XI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authority to rule is given from G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500-17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Absolute monarchs asserted that they ruled by this- the will of God; since God put these monarchs in their place- they had absolute po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ma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Span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fleet that had 20,000 men and 130 ships that sailed to England to inv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Spain to Eng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58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Philip II wanted the Armada to invade England; the Armada lost b.c of winds in the English channel= this defeat led to England becoming #1 power in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 Gre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famous Greek pai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painted religious &amp; spiritual paintings of Spanish no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Spain, Italy &amp; Gree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550-16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was a large influential figure during Spain’s golden age; court painter to Philip I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9T16:04:57Z</dcterms:created>
  <dc:creator>Windows User</dc:creator>
  <dc:description/>
  <dc:language>en-US</dc:language>
  <cp:lastModifiedBy>Windows User</cp:lastModifiedBy>
  <dcterms:modified xsi:type="dcterms:W3CDTF">2013-01-11T20:45:51Z</dcterms:modified>
  <cp:revision>26</cp:revision>
  <dc:subject/>
  <dc:title>James I</dc:title>
</cp:coreProperties>
</file>